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8ED-2B61-4732-B7BF-05A63609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B9A-2255-44D1-9FC9-45E550AB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23D5-FCEE-4842-A512-A02A2707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FCF1-C756-4CF8-B37D-8CE6EF66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EB3A-3398-4E47-8477-18B9E266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B481-FE85-454F-9F0A-852AC1E0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ED7E-F3C9-4269-B64A-47C62605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7A07-A1E7-4C0D-A81F-2A3A65F5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241D-68BD-47F0-B680-CF46711A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283D-8C6B-4311-AD67-7D76D178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8AD8-8B9A-43B3-971B-66F70891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C956-4CB3-4595-A886-73525911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A8FE-6F57-4BA2-99AA-BC71C6D4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7852-99EC-461B-B886-A1B36BE1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3429-2681-4555-BB58-04446413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E007-3AB9-42E2-8FB1-0433E990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E8BC-99C1-4822-98F1-D18CAE00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EE3B-801D-430B-9F48-A8567800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161-B4A2-45E4-B26D-7ADA32B5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084-24FA-4792-8434-B758F4EC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269-F2FD-48A0-B756-BE4F0DFC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2682-587B-4934-91AA-1E9259B8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B9B-8186-4645-881E-F4133596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3F1-B324-4D6D-9CC0-B466C0A8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0DD9-A89A-41A2-BB2E-DC56794F646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2B49-C6F9-4988-8270-11E7219710D2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87280" y="3573360"/>
            <a:ext cx="6477120" cy="184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ربي عظيم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052640"/>
            <a:ext cx="7880400" cy="396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 u="sng">
                <a:solidFill>
                  <a:srgbClr val="ffffff"/>
                </a:solidFill>
                <a:uFillTx/>
                <a:latin typeface="Tahoma"/>
                <a:cs typeface="AF_Diwani"/>
              </a:rPr>
              <a:t>نشيد المناولة: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68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ربي عظيمةٌ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كلُّ أعمالِكَ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يا إلهَنا القدير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91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عدلٌ وحقٌ كلُّ أحكامِك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أنتَ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مَلِكُ الدّهور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1424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ffffff"/>
                </a:solidFill>
                <a:latin typeface="Tahoma"/>
                <a:cs typeface="Akhbar MT"/>
              </a:rPr>
              <a:t>مَن لا يمجِّد اسمَك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ffffff"/>
                </a:solidFill>
                <a:latin typeface="Tahoma"/>
                <a:cs typeface="Akhbar MT"/>
              </a:rPr>
              <a:t>يا رب مَن لا يَخافُ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ffffff"/>
                </a:solidFill>
                <a:latin typeface="Tahoma"/>
                <a:cs typeface="Akhbar MT"/>
              </a:rPr>
              <a:t>قُدسَك يا ألله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1058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كلُّ الشّعوب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لَكَ سَتَنحني لأنَّ مَجْدَك سَيُرى. هللويا آمين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1:28:31Z</dcterms:created>
  <dc:creator>Charbel Azar</dc:creator>
  <dc:description/>
  <dc:language>en-US</dc:language>
  <cp:lastModifiedBy>-</cp:lastModifiedBy>
  <dcterms:modified xsi:type="dcterms:W3CDTF">2003-01-16T10:09:43Z</dcterms:modified>
  <cp:revision>5</cp:revision>
  <dc:subject/>
  <dc:title>Slide 1</dc:title>
</cp:coreProperties>
</file>